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5.jpeg" ContentType="image/jpeg"/>
  <Override PartName="/ppt/media/image8.jpeg" ContentType="image/jpe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gif" ContentType="image/gif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07760-79D6-40B3-9008-46E688D11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16000"/>
              </a:lnSpc>
              <a:tabLst>
                <a:tab algn="l" pos="0"/>
                <a:tab algn="l" pos="649440"/>
                <a:tab algn="l" pos="1298520"/>
                <a:tab algn="l" pos="1949400"/>
                <a:tab algn="l" pos="259884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  <a:tab algn="l" pos="8601120"/>
                <a:tab algn="l" pos="9010800"/>
                <a:tab algn="l" pos="9420120"/>
                <a:tab algn="l" pos="9829800"/>
                <a:tab algn="l" pos="10239480"/>
                <a:tab algn="l" pos="10648800"/>
              </a:tabLst>
            </a:pPr>
            <a:fld id="{C1C580CC-6BCD-408F-AED2-F52B2AC2A95B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1600"/>
            <a:ext cx="548784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16000"/>
              </a:lnSpc>
              <a:tabLst>
                <a:tab algn="l" pos="0"/>
                <a:tab algn="l" pos="649440"/>
                <a:tab algn="l" pos="1298520"/>
                <a:tab algn="l" pos="1949400"/>
                <a:tab algn="l" pos="259884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  <a:tab algn="l" pos="8601120"/>
                <a:tab algn="l" pos="9010800"/>
                <a:tab algn="l" pos="9420120"/>
                <a:tab algn="l" pos="9829800"/>
                <a:tab algn="l" pos="10239480"/>
                <a:tab algn="l" pos="10648800"/>
              </a:tabLst>
            </a:pPr>
            <a:fld id="{ABEE05B7-12A7-4EAD-8363-F5C1E6F0ACB0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1600"/>
            <a:ext cx="548784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16000"/>
              </a:lnSpc>
              <a:tabLst>
                <a:tab algn="l" pos="0"/>
                <a:tab algn="l" pos="649440"/>
                <a:tab algn="l" pos="1298520"/>
                <a:tab algn="l" pos="1949400"/>
                <a:tab algn="l" pos="259884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  <a:tab algn="l" pos="8601120"/>
                <a:tab algn="l" pos="9010800"/>
                <a:tab algn="l" pos="9420120"/>
                <a:tab algn="l" pos="9829800"/>
                <a:tab algn="l" pos="10239480"/>
                <a:tab algn="l" pos="10648800"/>
              </a:tabLst>
            </a:pPr>
            <a:fld id="{BBDF6494-3E84-4EFA-BBB9-05DEF8DDE1B7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1600"/>
            <a:ext cx="548784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CCC66-B251-4B41-A8BF-ECDB16BD1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BECA0-22EC-4AD0-A0C9-D23F8DB56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9DE6D-31A2-41E7-92D7-12465AE4E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268B7-009B-4726-B99E-9EEF04933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690B0-3E47-4A07-AFC0-6FAA046C9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0CC8D-6012-4E57-97BF-1184651FC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0DF23-EFE5-49A6-94EA-5FDA50331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F7BB6-A9B5-40FC-AE8A-04D424503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786C5-F21F-425E-B56E-EBF4465A0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53352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21551-8ACE-4F09-A074-7744C15D7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B13DA-BF46-425F-BAFA-4247D0D0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D9DA5-2D29-4E94-BE25-BC608A24A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44F4D-41F0-4B9A-A639-49C83A95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3359A-7667-4409-A283-F114AB36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24D46-E79C-4B20-B755-9F03D0F1F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9CD95-6975-4CF4-9BEB-4C7C89799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38C30-FE91-4EB2-8C76-2B7AB9111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F8B5F-A038-4149-9A01-B6F8DF563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7D74D-4293-4E52-AC5A-54B4A28F0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70ECF-9183-492A-A7CE-E8331306B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53352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BE95D-C382-4B65-8B30-21B416946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137C9-815D-42CC-8DDE-712BA0F9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EE357-53D9-4A72-95AA-BFAA8990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BD3B6-C175-436B-835F-D15AA8A6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F9503-9906-4EE5-AD24-9A893734ED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914400"/>
            <a:ext cx="285840" cy="223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6f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12920" y="971640"/>
            <a:ext cx="8731080" cy="11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9680" y="971640"/>
            <a:ext cx="137880" cy="58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47560" y="914400"/>
            <a:ext cx="139680" cy="57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47560" y="971640"/>
            <a:ext cx="139680" cy="586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274680" y="1028880"/>
            <a:ext cx="136440" cy="58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409680" y="1028880"/>
            <a:ext cx="137880" cy="568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274680" y="1085760"/>
            <a:ext cx="136440" cy="57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503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503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503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" name="" descr=""/>
          <p:cNvPicPr/>
          <p:nvPr/>
        </p:nvPicPr>
        <p:blipFill>
          <a:blip r:embed="rId2"/>
          <a:stretch/>
        </p:blipFill>
        <p:spPr>
          <a:xfrm>
            <a:off x="8381880" y="6248520"/>
            <a:ext cx="609840" cy="457200"/>
          </a:xfrm>
          <a:prstGeom prst="rect">
            <a:avLst/>
          </a:prstGeom>
          <a:ln w="0">
            <a:noFill/>
          </a:ln>
        </p:spPr>
      </p:pic>
      <p:sp>
        <p:nvSpPr>
          <p:cNvPr id="14" name=""/>
          <p:cNvSpPr/>
          <p:nvPr/>
        </p:nvSpPr>
        <p:spPr>
          <a:xfrm>
            <a:off x="133200" y="952560"/>
            <a:ext cx="152640" cy="152280"/>
          </a:xfrm>
          <a:prstGeom prst="ellipse">
            <a:avLst/>
          </a:prstGeom>
          <a:solidFill>
            <a:srgbClr val="e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5CE21-AEC5-4091-B58D-81055F2906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320" y="990720"/>
            <a:ext cx="9067680" cy="579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orkshop:</a:t>
            </a:r>
            <a:br>
              <a:rPr sz="44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active Visual Exploration of Electronic Health Record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vid Wang, Catherine Plaisant, Ben Shneiderman</a:t>
            </a:r>
            <a:br>
              <a:rPr sz="24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y of Marylan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ge Park, MD 207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Welcome &#10;to the University of Maryland"/>
          <p:cNvPicPr/>
          <p:nvPr/>
        </p:nvPicPr>
        <p:blipFill>
          <a:blip r:embed="rId1"/>
          <a:stretch/>
        </p:blipFill>
        <p:spPr>
          <a:xfrm>
            <a:off x="2057400" y="5776920"/>
            <a:ext cx="4952880" cy="8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" descr=""/>
          <p:cNvPicPr/>
          <p:nvPr/>
        </p:nvPicPr>
        <p:blipFill>
          <a:blip r:embed="rId1"/>
          <a:stretch/>
        </p:blipFill>
        <p:spPr>
          <a:xfrm>
            <a:off x="196920" y="250920"/>
            <a:ext cx="8847000" cy="663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feLines: Visualizing Personal His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88840" y="6512040"/>
            <a:ext cx="314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tique Olv (W1)"/>
              </a:rPr>
              <a:t>(Plaisant et al., CHI 199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14895" r="0" b="12764"/>
          <a:stretch/>
        </p:blipFill>
        <p:spPr>
          <a:xfrm>
            <a:off x="1295280" y="1116000"/>
            <a:ext cx="6629400" cy="54529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243400" y="4336920"/>
            <a:ext cx="2681280" cy="2232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340520" y="6553080"/>
            <a:ext cx="32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ww.cs.umd.edu/hcil/life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ding Patterns in Temporal Ev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s of Tim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erical Values (e.g., TimeSearch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egorical Events &amp; Intervals (e.g., LifeLi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egorical Ev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: Find Temporal Patter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across Millions of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QL makes it difficult to spec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rison with SQ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1760" y="1218960"/>
            <a:ext cx="5638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 P.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 Person P, Event E1, Event E2, Event E3, Event E4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P.PID = E1.P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P.PID = E2.P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P.PID = E3.P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P.PID = E4.P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E1.type = “Medica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E1.class = “Anti Depressant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E1.name = “Remeron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E2.type = “Medica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E2.class = “Anti Depressant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E2.name = “Remeron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E3.type = “Medica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E3.class = “Anti Depressant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E3.name = “Remeron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548640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ique Olv (W1)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ntique Olv (W1)"/>
              </a:rPr>
              <a:t>Patients with increasing dosages of Remer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ntique Olv (W1)"/>
              </a:rPr>
              <a:t>     followed by a heart attack within 180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48320" y="1905120"/>
            <a:ext cx="807696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E2.value &gt; E1.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E3.value &gt;= E2.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E2.date &gt; E1.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E3.date &gt;= E2.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E4.type = “Visi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E4.class = “Hospita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E4.name = “Emergency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E4.value = "Heart Attack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E4.date &gt;= E3.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180 &lt;= (E4.date – E3.d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tternFinder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8440" y="1576440"/>
            <a:ext cx="9056880" cy="29955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04920" y="537840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ique Olv (W1)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ntique Olv (W1)"/>
              </a:rPr>
              <a:t>Patients with increasing dosages of Remer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ntique Olv (W1)"/>
              </a:rPr>
              <a:t>     followed by a heart attack within 180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 set visualization: ball &amp; ch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41148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ntique Olv (W1)"/>
              </a:rPr>
              <a:t>Five match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76320" y="1555920"/>
            <a:ext cx="8915400" cy="18475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048760" y="6324480"/>
            <a:ext cx="470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ww.cs.umd.edu/hcil/patternfi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537840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ique Olv (W1)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ntique Olv (W1)"/>
              </a:rPr>
              <a:t>Patients with increasing dosages of Remer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ntique Olv (W1)"/>
              </a:rPr>
              <a:t>     followed by a heart attack within 180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rrent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92000" y="3670920"/>
            <a:ext cx="9342720" cy="28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tique Olv (W1)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d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tique Olv (W1)"/>
              </a:rPr>
              <a:t>Lab value [HGB] increases by 50% in 10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d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d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tique Olv (W1)"/>
              </a:rPr>
              <a:t>Lab value [Platelets] is high in a patient on heparin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ntique Olv (W1)"/>
              </a:rPr>
              <a:t>     then decreases &gt; 20%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ntique Olv (W1)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d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tique Olv (W1)"/>
              </a:rPr>
              <a:t>Patient seen at ER &amp; discharged, then returns to ER within 14 day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ntique Olv (W1)"/>
              </a:rPr>
              <a:t>     &amp; condition = [dea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tique Olv (W1)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1371600"/>
            <a:ext cx="8382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ique Olv (W1)"/>
              </a:rPr>
              <a:t>Washington Hospital Center &amp; Partners Health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ique Olv (W1)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ntique Olv (W1)"/>
              </a:rPr>
              <a:t>- Developing taxonomy of simple queri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ntique Olv (W1)"/>
              </a:rPr>
              <a:t>       based on interviews with physic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ique Olv (W1)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ntique Olv (W1)"/>
              </a:rPr>
              <a:t>- Designed interface to fit in Azyxxi-Amal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tient History Search: WHC- PatternFind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30960" y="2286000"/>
            <a:ext cx="125424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990720" y="1193760"/>
            <a:ext cx="6933960" cy="52070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2046240" y="6491160"/>
            <a:ext cx="580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ww.cs.umd.edu/hcil/patternfinderinAzyxx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feLines2: Align-Rank-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457200" y="1197000"/>
            <a:ext cx="7842240" cy="52038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49840" y="6491160"/>
            <a:ext cx="42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ww.cs.umd.edu/hcil/lifeline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feLines2: Align-Rank-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5" descr=""/>
          <p:cNvPicPr/>
          <p:nvPr/>
        </p:nvPicPr>
        <p:blipFill>
          <a:blip r:embed="rId1"/>
          <a:stretch/>
        </p:blipFill>
        <p:spPr>
          <a:xfrm>
            <a:off x="438120" y="1193760"/>
            <a:ext cx="788184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320" y="990720"/>
            <a:ext cx="9067680" cy="579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roduction:</a:t>
            </a:r>
            <a:br>
              <a:rPr sz="40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active Visual Exploration of Electronic Health Record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n Shneiderma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Computer Interaction Lab &amp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pt of Computer Scienc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y of Marylan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ge Park, MD 207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Welcome &#10;to the University of Maryland"/>
          <p:cNvPicPr/>
          <p:nvPr/>
        </p:nvPicPr>
        <p:blipFill>
          <a:blip r:embed="rId1"/>
          <a:stretch/>
        </p:blipFill>
        <p:spPr>
          <a:xfrm>
            <a:off x="2209680" y="5821200"/>
            <a:ext cx="4800600" cy="8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ke Away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ries for temporal events are possibl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ual spec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id exec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ualization of results: ball &amp; chain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Facilitate medical treatment &amp;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s to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shington Hospital Center &amp; Partners Health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600200" y="617076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ww.cs.umd.edu/hcil/patternfinderinAzyxx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ww.cs.umd.edu/hcil/lifeline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mporal Data is Pervasi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lth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ck market tr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 log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me/terror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enance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696080" y="304920"/>
            <a:ext cx="990720" cy="990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438280" cy="1606680"/>
          </a:xfrm>
          <a:prstGeom prst="rect">
            <a:avLst/>
          </a:prstGeom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5791320" y="2514600"/>
            <a:ext cx="3124080" cy="1927080"/>
          </a:xfrm>
          <a:prstGeom prst="rect">
            <a:avLst/>
          </a:prstGeom>
          <a:ln w="12600">
            <a:solidFill>
              <a:srgbClr val="00007d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</p:pic>
      <p:grpSp>
        <p:nvGrpSpPr>
          <p:cNvPr id="121" name=""/>
          <p:cNvGrpSpPr/>
          <p:nvPr/>
        </p:nvGrpSpPr>
        <p:grpSpPr>
          <a:xfrm>
            <a:off x="4876920" y="3686040"/>
            <a:ext cx="2971440" cy="2638440"/>
            <a:chOff x="4876920" y="3686040"/>
            <a:chExt cx="2971440" cy="2638440"/>
          </a:xfrm>
        </p:grpSpPr>
        <p:pic>
          <p:nvPicPr>
            <p:cNvPr id="122" name="" descr=""/>
            <p:cNvPicPr/>
            <p:nvPr/>
          </p:nvPicPr>
          <p:blipFill>
            <a:blip r:embed="rId4"/>
            <a:stretch/>
          </p:blipFill>
          <p:spPr>
            <a:xfrm>
              <a:off x="5296680" y="3686040"/>
              <a:ext cx="2551680" cy="2638440"/>
            </a:xfrm>
            <a:prstGeom prst="rect">
              <a:avLst/>
            </a:prstGeom>
            <a:ln w="255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808080"/>
              </a:outerShdw>
            </a:effectLst>
          </p:spPr>
        </p:pic>
        <p:pic>
          <p:nvPicPr>
            <p:cNvPr id="123" name="" descr="how do people find your website? medical records graphic."/>
            <p:cNvPicPr/>
            <p:nvPr/>
          </p:nvPicPr>
          <p:blipFill>
            <a:blip r:embed="rId5"/>
            <a:stretch/>
          </p:blipFill>
          <p:spPr>
            <a:xfrm>
              <a:off x="4876920" y="4960080"/>
              <a:ext cx="1799280" cy="1247400"/>
            </a:xfrm>
            <a:prstGeom prst="rect">
              <a:avLst/>
            </a:prstGeom>
            <a:ln w="25560">
              <a:solidFill>
                <a:srgbClr val="000000"/>
              </a:solidFill>
              <a:miter/>
            </a:ln>
            <a:effectLst>
              <a:outerShdw dist="81185" dir="2321969" blurRad="0" rotWithShape="0">
                <a:srgbClr val="333333">
                  <a:alpha val="90000"/>
                </a:srgbClr>
              </a:outerShdw>
            </a:effectLst>
          </p:spPr>
        </p:pic>
      </p:grpSp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2743200" y="4267080"/>
            <a:ext cx="3048120" cy="2286000"/>
          </a:xfrm>
          <a:prstGeom prst="rect">
            <a:avLst/>
          </a:prstGeom>
          <a:ln w="255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</p:pic>
      <p:pic>
        <p:nvPicPr>
          <p:cNvPr id="125" name="" descr=""/>
          <p:cNvPicPr/>
          <p:nvPr/>
        </p:nvPicPr>
        <p:blipFill>
          <a:blip r:embed="rId7"/>
          <a:stretch/>
        </p:blipFill>
        <p:spPr>
          <a:xfrm>
            <a:off x="304920" y="4419720"/>
            <a:ext cx="2819160" cy="2288880"/>
          </a:xfrm>
          <a:prstGeom prst="rect">
            <a:avLst/>
          </a:prstGeom>
          <a:ln w="12600">
            <a:solidFill>
              <a:srgbClr val="00007d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siness takes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Dynamics 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buy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yaV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ilent 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buy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ene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gle 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buy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apmi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acle 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buy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Hyperion 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buy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celsi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soft 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buy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c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Builders 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buy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dvizor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P 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buy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Business Objects 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buy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Infomersion &amp; Inxight &amp; Crystal Reports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M 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buy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Cognos 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buy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eleque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BCO 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buy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potf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mporal Data: TimeSearcher 1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specifi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pid 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8" descr="fullscreen"/>
          <p:cNvPicPr/>
          <p:nvPr/>
        </p:nvPicPr>
        <p:blipFill>
          <a:blip r:embed="rId1"/>
          <a:stretch/>
        </p:blipFill>
        <p:spPr>
          <a:xfrm>
            <a:off x="3276720" y="1185840"/>
            <a:ext cx="5790960" cy="559584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5"/>
          <p:cNvSpPr/>
          <p:nvPr/>
        </p:nvSpPr>
        <p:spPr>
          <a:xfrm>
            <a:off x="6330960" y="2286000"/>
            <a:ext cx="125424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313200" y="5943600"/>
            <a:ext cx="278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ww.cs.umd.edu/hci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/timesear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mporal Data: TimeSearcher 2.0 &amp; 3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01028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Time series (&gt;10,000 time poi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led precision in matc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(Linear, offset, noise, amplitu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30960" y="2286000"/>
            <a:ext cx="125424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28600" y="2819520"/>
            <a:ext cx="8686800" cy="3654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049120" y="6477120"/>
            <a:ext cx="45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ww.cs.umd.edu/hcil/timesear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mporal data: Word frequ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6330960" y="2286000"/>
            <a:ext cx="125424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648320" y="4000320"/>
            <a:ext cx="4038480" cy="186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"/>
          <p:cNvPicPr/>
          <p:nvPr/>
        </p:nvPicPr>
        <p:blipFill>
          <a:blip r:embed="rId1"/>
          <a:stretch/>
        </p:blipFill>
        <p:spPr>
          <a:xfrm>
            <a:off x="28440" y="1200240"/>
            <a:ext cx="9087120" cy="56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1" descr=""/>
          <p:cNvPicPr/>
          <p:nvPr/>
        </p:nvPicPr>
        <p:blipFill>
          <a:blip r:embed="rId1"/>
          <a:stretch/>
        </p:blipFill>
        <p:spPr>
          <a:xfrm>
            <a:off x="196920" y="138240"/>
            <a:ext cx="8847000" cy="663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1" descr=""/>
          <p:cNvPicPr/>
          <p:nvPr/>
        </p:nvPicPr>
        <p:blipFill>
          <a:blip r:embed="rId1"/>
          <a:stretch/>
        </p:blipFill>
        <p:spPr>
          <a:xfrm>
            <a:off x="196920" y="250920"/>
            <a:ext cx="8847000" cy="6635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20:17:30Z</dcterms:created>
  <dc:creator>Benjamin B. Bederson</dc:creator>
  <dc:description/>
  <dc:language>en-US</dc:language>
  <cp:lastModifiedBy>Ben Shneiderman</cp:lastModifiedBy>
  <dcterms:modified xsi:type="dcterms:W3CDTF">2008-05-31T19:41:14Z</dcterms:modified>
  <cp:revision>221</cp:revision>
  <dc:subject/>
  <dc:title>Voting System Technologies</dc:title>
</cp:coreProperties>
</file>